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5F3-5493-42E9-AF1A-6479185B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F4A-89D7-4412-8D3D-701C46EA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B6B-5286-41FC-B146-92389226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B16-9A1F-401A-A203-368643DB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590B-4BE5-422E-88DB-18FE18FA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52F1-A3D5-41E4-80D2-BD4C49E5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FA65-35E8-4666-955E-42BFDE58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E6DE-386F-462C-9188-5713EF83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9B66-C823-4661-A7C7-AD2090DE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C590-11DA-479B-961D-20F10686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16E3-4EA1-4979-AAB0-1FD40611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3F3-0B71-4CAE-A641-0EC1C322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C4F7-AC29-4CE5-92BB-8FE2F902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5283-E1E9-448A-9B6B-D051F9F4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43AE-8447-4A63-977D-354789E9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AB86-266B-41BD-8165-C9B70AB8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2311-907B-42E2-9CDD-C4A7D16C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21F-BDA3-4912-B933-E7E3D4BB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08D-058E-42C6-810E-2C882E7D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133-E2B9-408F-97BB-28C5108A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AEC-FDA3-407A-9CBB-2B60C5DA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120-DB17-4543-9A11-06A91983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D50-8471-4A3B-AEF5-9B2EEC48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F1D-3E02-43C5-BD90-F7BD8D10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7064-C0AA-4050-8A8B-454451D076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87EE-4B6C-4DCD-A2C2-D1C45FE220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92360" y="1341360"/>
            <a:ext cx="5940360" cy="34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LAB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81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isovalues = (-3.0:0.5:3.0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contour(X,Y,Z,isovalues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view(2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55812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xslice = (1:3:9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isovalues = (-3.0:0.25:3.0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contourslice(x,y,z,v,xslice,yslice,zslice,isovalues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931080" cy="514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278100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urple = [1.0 0.5 1.0]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 = patch(isosurface(x,y,z,v,isovalue)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et(p,'FaceColor',purple,'EdgeColor','none'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07320" cy="52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s = v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2 = 0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2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2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2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map (jet(64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840360" cy="529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oad wind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in = min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ax = max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in = min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ax = max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in = min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ax = max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sx sy sz] = meshgrid(xmin,ymin:10:ymax,zmin:2:zmax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h = streamtube(x,y,z,u,v,w,sx,sy,s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h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40 5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ff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box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fla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60384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23640" y="1628640"/>
            <a:ext cx="3095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ew([-20,25])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2852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[X,Y] = meshgrid(-8:.5:8)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R = sqrt(X.^2 + Y.^2)+eps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Z = sin(R)./R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92360" y="882720"/>
            <a:ext cx="6264360" cy="46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2707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r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theta phi] = meshgrid(r,s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'(2 + cos(phi))*cos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'(2 + cos(phi))*sin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'sin(phi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vectorize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vectorize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vectorize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x = eval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y = eval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z = eval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97708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0560" y="27079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theta = (0:1:36)*pi/18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rho = [0 1]'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rho*cos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rho*sin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rho*ones(size(theta))*cos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ne = surf(x,y,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square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1 = [1 1]'*cos(theta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one,'CData',c1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hold on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phi = (0:1:6)'*pi/36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sin(phi)*cos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sin(phi)*sin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cos(phi)*ones(size(theta)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p = surf(X,Y,Z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2 = (2:1:8)'*cos(theta)/8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ap,'CData',c2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view(-37.5,20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43428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985080" cy="55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256500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7344000" cy="591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234900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sh(X,Y,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([-3 3 -3 3 -10 10]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8920" y="292392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xslice = 5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lice(x,y,z,v,xslice,yslice,zslice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912000" cy="50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5:17:17Z</dcterms:created>
  <dc:creator>USER_CHIP</dc:creator>
  <dc:description/>
  <dc:language>en-US</dc:language>
  <cp:lastModifiedBy>STUDENT</cp:lastModifiedBy>
  <dcterms:modified xsi:type="dcterms:W3CDTF">2011-11-01T15:30:53Z</dcterms:modified>
  <cp:revision>17</cp:revision>
  <dc:subject/>
  <dc:title>Слайд 1</dc:title>
</cp:coreProperties>
</file>