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2D6-69E8-4E1E-B015-34BC47BE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72C-7EB7-408B-BD35-6CD2D667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D28-8B14-4386-A0EF-6EA41802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90C-BBD5-44B2-80C4-62C23B32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0788-2319-4FF1-8092-E340AAE3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1525-D14D-4C69-B6A9-7E4F35FB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B5E0-93EC-4D2B-808D-4E962044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5C39-D0C9-46C1-8F2C-7F911FB5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60CC-2D54-47A7-B597-16FCAF54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B364-C9BD-403F-969F-C37DD6D6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E6F7-B960-4930-BA02-FFAE6321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BF4-18BD-4C95-A220-3B68617B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AA01-32D2-424E-BD83-28EF40D5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771A-BA3B-4D62-B671-26F01FDD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E715-98FB-45EA-922F-A737D238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4F1C-91DF-4631-9A9E-95CAB352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907B-0AE5-4FA6-BB54-64F4A7D8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728-D861-4BFF-BE90-70AF0F4C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CC2-43A4-48A2-BD72-0EF44395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1DA-0DA0-458F-8CAF-8886F2D0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187-02C4-4AFF-BEA8-AE369C4B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C34-C8F8-4DCB-AA94-AC1307CE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DC8-231C-4F87-AE7A-A8F4F22E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895-9732-4089-A5A7-610F7206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F9D5-71A2-4C8A-9348-28A762FED9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9AE0-187E-47C1-8A11-FC5CA484D4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1341360"/>
            <a:ext cx="594036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LA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isovalues = (-3.0:0.5:3.0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contour(X,Y,Z,isovalues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view(2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55812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xslice = (1:3:9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isovalues = (-3.0:0.25:3.0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contourslice(x,y,z,v,xslice,yslice,zslice,isovalues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3108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urple = [1.0 0.5 1.0]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 = patch(isosurface(x,y,z,v,isovalue)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et(p,'FaceColor',purple,'EdgeColor','none'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07320" cy="52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s = v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2 = 0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2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2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2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map (jet(64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29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oad wind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in = min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ax = max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in = min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ax = max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in = min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ax = max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sx sy sz] = meshgrid(xmin,ymin:10:ymax,zmin:2:zmax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h = streamtube(x,y,z,u,v,w,sx,sy,s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h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40 5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ff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box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fla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0384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309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ew([-20,25])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[X,Y] = meshgrid(-8:.5:8)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R = sqrt(X.^2 + Y.^2)+eps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Z = sin(R)./R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92360" y="882720"/>
            <a:ext cx="62643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r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theta phi] = meshgrid(r,s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'(2 + cos(phi))*cos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'(2 + cos(phi))*sin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'sin(phi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vectorize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vectorize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vectorize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x = eval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y = eval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z = eval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97708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theta = (0:1:36)*pi/18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rho = [0 1]'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rho*cos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rho*sin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rho*ones(size(theta))*cos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ne = surf(x,y,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square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1 = [1 1]'*cos(theta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one,'CData',c1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hold on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phi = (0:1:6)'*pi/36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sin(phi)*cos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sin(phi)*sin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cos(phi)*ones(size(theta)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p = surf(X,Y,Z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2 = (2:1:8)'*cos(theta)/8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ap,'CData',c2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view(-37.5,20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4342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2565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44000" cy="59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sh(X,Y,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([-3 3 -3 3 -10 10]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292392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xslice = 5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lice(x,y,z,v,xslice,yslice,zslice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2000" cy="50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5:17:17Z</dcterms:created>
  <dc:creator>USER_CHIP</dc:creator>
  <dc:description/>
  <dc:language>en-US</dc:language>
  <cp:lastModifiedBy>STUDENT</cp:lastModifiedBy>
  <dcterms:modified xsi:type="dcterms:W3CDTF">2011-11-01T15:30:53Z</dcterms:modified>
  <cp:revision>17</cp:revision>
  <dc:subject/>
  <dc:title>Слайд 1</dc:title>
</cp:coreProperties>
</file>