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E44-2FF0-4CCB-9AE6-CED7037D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A95-9536-4E5F-9270-CAF5A91A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E57-8575-45D3-9964-3DE2EA92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F5A-EB91-4C07-A780-119AAF15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0A8A-D358-4708-8B8A-967CC119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3595-560B-4CCB-A8A2-0D6078C3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9294-CFDE-4243-AA45-604EA4EA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AEAD-7929-4091-AE38-329F0928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B9CE-E3EC-4A6B-9A59-E90B3490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CD53-8B88-4373-9905-217A9F4D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03D7-81D6-4522-9BBF-861C8902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A1D-3995-4811-A70E-38F585BF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A64F-2073-430E-AC3C-B1ED48DE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6CAE-2AFA-4709-82AF-B157C7ED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8B6C-49E0-4175-A42A-7A265084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C654-5DE3-4B12-80F6-0D7465E9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BC27-41BA-4FBC-99E0-9C5B491D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726-03FA-4F2B-930C-046C1D3F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E43-EFDF-4D40-B59F-5D2CC0DE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8DF-918A-41AA-933B-3BB2067D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76B-B042-49F1-A03D-4E89F477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F7A-B8DD-4E67-A68E-0CC22F4F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DCD-C1BC-4942-BB20-B94125C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AC7-62C2-4E7A-9705-EEF94F9B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1827-AD7B-451B-B7E3-D4B09D0DE26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09BD-32D6-48E6-8850-D85ECF5F636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93560" y="633240"/>
            <a:ext cx="7931160" cy="1487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643720" y="5072040"/>
            <a:ext cx="2914560" cy="90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202-AMT guruh talabasi Achilova Firu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1090440" y="2444760"/>
            <a:ext cx="66027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98" name="Подзаголовок 2"/>
          <p:cNvGrpSpPr/>
          <p:nvPr/>
        </p:nvGrpSpPr>
        <p:grpSpPr>
          <a:xfrm>
            <a:off x="2023920" y="3584520"/>
            <a:ext cx="4741920" cy="774720"/>
            <a:chOff x="2023920" y="3584520"/>
            <a:chExt cx="4741920" cy="774720"/>
          </a:xfrm>
        </p:grpSpPr>
        <p:pic>
          <p:nvPicPr>
            <p:cNvPr id="99" name="Подзаголовок 2" descr=""/>
            <p:cNvPicPr/>
            <p:nvPr/>
          </p:nvPicPr>
          <p:blipFill>
            <a:blip r:embed="rId4"/>
            <a:stretch/>
          </p:blipFill>
          <p:spPr>
            <a:xfrm>
              <a:off x="2023920" y="3584520"/>
              <a:ext cx="4741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143080" y="3643200"/>
              <a:ext cx="4572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Mavzu:Tasvirni yorqinligini qayta ishl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5410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mread('peppers.png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(10+[1:256],222+[1:256],: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I);title('Original Image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LEN = 3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HETA = 1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PSF = fspecial('motion',LEN,THETA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Blurred = imfilter(I,PSF,'circular','conv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 imshow(Blurred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Blurred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wnr1 = deconvwnr(Blurred,PSF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wnr1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Restored, True PSF');</a:t>
            </a:r>
            <a:br>
              <a:rPr sz="1800"/>
            </a:b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32000" y="2205000"/>
            <a:ext cx="3754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716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1 = imread('football.jpg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2 = imadjust(RGB1,[.1 .2 .5; .9 .3 .8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3 = imadjust(RGB1,[.8 .9 0; .9 1 1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1=[RGB1 RGB2 RGB3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56000" y="4653000"/>
            <a:ext cx="61149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6875640" cy="281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 = imread('pout.tif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J = imadjust(I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K = imadjust(I,[0.1 0.5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=[I J K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8580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tire.tif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2 = uint8(colfilt(I,[5 5],'sliding',@mean)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I I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'distinct' </a:t>
            </a: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UN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81200" y="2529000"/>
            <a:ext cx="578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357192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rgb2ind(I,32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8124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572080" y="3357720"/>
            <a:ext cx="31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357200" y="3357720"/>
            <a:ext cx="3181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37576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bw=im2bw(I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gray2ind(bw,256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;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71880" y="4638600"/>
            <a:ext cx="3071880" cy="22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0" y="4643280"/>
            <a:ext cx="296244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43760" y="2286000"/>
            <a:ext cx="30510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215040" y="4626000"/>
            <a:ext cx="292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JUS1 = 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JUS2 = imadjust(JUS1,[.2 .3 0; .6 .7 0.9],[]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%imshow(JUS1), figure, imshow(JUS2)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JUS1 JUS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RGB2=imadjust(RGB1,[Low_in; High_in],[low_out; High_out],gamma]);</a:t>
            </a:r>
            <a:br>
              <a:rPr sz="20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14680" y="4572000"/>
            <a:ext cx="5143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D:\odam.jpg'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%  figure, imshow(I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1 = imopen(I,strel('line',20,4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2 = imopen(I,strel('disk',1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3 = imopen(I,strel('square',18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4 = imopen(I,strel('ball',12,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2=[bg3 bg4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1=[bg1 bg2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 imshow(Natija1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imshow(Natija2)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071880" y="4610160"/>
            <a:ext cx="6000840" cy="22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071880" y="2357280"/>
            <a:ext cx="599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843200" y="1935000"/>
            <a:ext cx="545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071800" y="2031840"/>
            <a:ext cx="48736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076640" cy="402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99000" y="2279520"/>
            <a:ext cx="40766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14:53Z</dcterms:created>
  <dc:creator>User</dc:creator>
  <dc:description/>
  <dc:language>en-US</dc:language>
  <cp:lastModifiedBy>USER_CHIP</cp:lastModifiedBy>
  <dcterms:modified xsi:type="dcterms:W3CDTF">2011-11-24T11:13:30Z</dcterms:modified>
  <cp:revision>17</cp:revision>
  <dc:subject/>
  <dc:title>Слайд 1</dc:title>
</cp:coreProperties>
</file>