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529-09D9-451A-90DC-7FC0F356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E511-94E6-4526-89F6-C28291483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B7B3-B38B-4213-A1E1-5C75B1F0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6802-8EA4-4861-B927-78CAB0457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BFD01-8A33-455F-80B2-096E617E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EBF00-F1DE-4C97-BD66-ECE08CEA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6305-76EE-408D-92D6-5EC7D0B5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46647-9527-4704-85F7-E1ED63B16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17F2F-00CE-4B32-B16D-41BD4CD0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35FB-CEDD-46E6-8DFC-C5BA75C18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E748-158D-4B20-B281-700D404D6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02A-651F-43C5-966E-D7819D278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C79BC-099C-4A51-9AD9-4DC8678D8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8A46-C042-41BC-B55B-C2D17ED7B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E9E0-3E28-4A8E-A4E4-52407E900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CE07A-2CB9-4F0E-9F9E-9D57851BB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8DA31-974D-450F-89DA-B3B6DC069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08CD-0D45-475E-B50E-03CDB9763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FF59-CEE4-4A27-B9AE-883CB03F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2692-EC2D-48E8-9FB9-5D81D0A0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5186-99ED-4083-AE63-3CD7FE987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E16-D6E4-4DCB-AFFB-358CD44F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8B0C-6D59-40E2-B158-3596CB07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10A7-978E-4341-AF31-FEFC6606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750A-96E6-406D-AE21-5CC71B1C1C7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6C17-4A3D-4906-932E-39EBB1F7B1B3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2"/>
          <a:stretch/>
        </p:blipFill>
        <p:spPr>
          <a:xfrm>
            <a:off x="493560" y="633240"/>
            <a:ext cx="7931160" cy="14875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643720" y="5072040"/>
            <a:ext cx="2914560" cy="90000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c9f8"/>
                </a:solidFill>
                <a:latin typeface="Times New Roman"/>
                <a:ea typeface="Times New Roman"/>
              </a:rPr>
              <a:t>202-AMT guruh talabasi Achilova Firuza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97" name="Прямоугольник 5" descr=""/>
          <p:cNvPicPr/>
          <p:nvPr/>
        </p:nvPicPr>
        <p:blipFill>
          <a:blip r:embed="rId3"/>
          <a:stretch/>
        </p:blipFill>
        <p:spPr>
          <a:xfrm>
            <a:off x="1090440" y="2444760"/>
            <a:ext cx="6602760" cy="1231920"/>
          </a:xfrm>
          <a:prstGeom prst="rect">
            <a:avLst/>
          </a:prstGeom>
          <a:ln w="0">
            <a:noFill/>
          </a:ln>
        </p:spPr>
      </p:pic>
      <p:grpSp>
        <p:nvGrpSpPr>
          <p:cNvPr id="98" name="Подзаголовок 2"/>
          <p:cNvGrpSpPr/>
          <p:nvPr/>
        </p:nvGrpSpPr>
        <p:grpSpPr>
          <a:xfrm>
            <a:off x="2023920" y="3584520"/>
            <a:ext cx="4741920" cy="774720"/>
            <a:chOff x="2023920" y="3584520"/>
            <a:chExt cx="4741920" cy="774720"/>
          </a:xfrm>
        </p:grpSpPr>
        <p:pic>
          <p:nvPicPr>
            <p:cNvPr id="99" name="Подзаголовок 2" descr=""/>
            <p:cNvPicPr/>
            <p:nvPr/>
          </p:nvPicPr>
          <p:blipFill>
            <a:blip r:embed="rId4"/>
            <a:stretch/>
          </p:blipFill>
          <p:spPr>
            <a:xfrm>
              <a:off x="2023920" y="3584520"/>
              <a:ext cx="47419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143080" y="3643200"/>
              <a:ext cx="45720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d0d0d"/>
                  </a:solidFill>
                  <a:latin typeface="Times New Roman"/>
                  <a:ea typeface="Times New Roman"/>
                </a:rPr>
                <a:t>Mavzu:Tasvirni yorqinligini qayta ishlash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5410080" cy="26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mread('peppers.png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I = I(10+[1:256],222+[1:256],: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I);title('Original Image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LEN = 3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HETA = 11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PSF = fspecial('motion',LEN,THETA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Blurred = imfilter(I,PSF,'circular','conv'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 imshow(Blurred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Blurred');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wnr1 = deconvwnr(Blurred,PSF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figure;imshow(wnr1);</a:t>
            </a:r>
            <a:br>
              <a:rPr sz="1800"/>
            </a:br>
            <a:r>
              <a:rPr b="1" lang="ru-RU" sz="1800" spc="-1" strike="noStrike">
                <a:solidFill>
                  <a:srgbClr val="dbf5f9"/>
                </a:solidFill>
                <a:latin typeface="Arial Unicode MS"/>
              </a:rPr>
              <a:t>title('Restored, True PSF');</a:t>
            </a:r>
            <a:br>
              <a:rPr sz="1800"/>
            </a:br>
            <a:endParaRPr b="0" lang="en-US" sz="18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32000" y="2205000"/>
            <a:ext cx="3754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71628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1 = imread('football.jpg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2 = imadjust(RGB1,[.1 .2 .5; .9 .3 .8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RGB3 = imadjust(RGB1,[.8 .9 0; .9 1 1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1=[RGB1 RGB2 RGB3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1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556000" y="4653000"/>
            <a:ext cx="611496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6875640" cy="281016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8229600" cy="56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 = imread('pout.tif'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J = imadjust(I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K = imadjust(I,[0.1 0.5],[])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Nat=[I J K];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 Unicode MS"/>
              </a:rPr>
              <a:t>imshow(Nat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6858000" cy="2214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tire.tif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2 = uint8(colfilt(I,[5 5],'sliding',@mean)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I I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'distinct' </a:t>
            </a:r>
            <a:br>
              <a:rPr sz="1600"/>
            </a:br>
            <a:r>
              <a:rPr b="0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UN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81200" y="2529000"/>
            <a:ext cx="57816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42960" y="642960"/>
            <a:ext cx="3571920" cy="2357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rgb2ind(I,32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5572080" y="785880"/>
            <a:ext cx="3081240" cy="2357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5572080" y="3357720"/>
            <a:ext cx="3114720" cy="23572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1357200" y="3357720"/>
            <a:ext cx="31813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42960" y="856800"/>
            <a:ext cx="3757680" cy="2428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=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bw=im2bw(I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[X,MAP] = gray2ind(bw,256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 imshow(X,MAP);</a:t>
            </a: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3071880" y="4638600"/>
            <a:ext cx="3071880" cy="2290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0" y="4643280"/>
            <a:ext cx="2962440" cy="2214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43760" y="2286000"/>
            <a:ext cx="3051000" cy="228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4"/>
          <a:stretch/>
        </p:blipFill>
        <p:spPr>
          <a:xfrm>
            <a:off x="6215040" y="4626000"/>
            <a:ext cx="29289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8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</a:t>
            </a: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JUS1 = imread('D:\toti.jpg'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JUS2 = imadjust(JUS1,[.2 .3 0; .6 .7 0.9],[])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%imshow(JUS1), figure, imshow(JUS2)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Natija=[JUS1 JUS2];</a:t>
            </a: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        imshow(Natija);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RGB2=imadjust(RGB1,[Low_in; High_in],[low_out; High_out],gamma]);</a:t>
            </a:r>
            <a:br>
              <a:rPr sz="2000"/>
            </a:br>
            <a:endParaRPr b="0" lang="en-US" sz="2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14680" y="4572000"/>
            <a:ext cx="514332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8229600" cy="1654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I = imread('D:\odam.jpg'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%  figure, imshow(I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1 = imopen(I,strel('line',20,4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2 = imopen(I,strel('disk',1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3 = imopen(I,strel('square',18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bg4 = imopen(I,strel('ball',12,5))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2=[bg3 bg4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Natija1=[bg1 bg2];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 imshow(Natija1)</a:t>
            </a:r>
            <a:br>
              <a:rPr sz="1600"/>
            </a:br>
            <a:r>
              <a:rPr b="1" lang="en-US" sz="1600" spc="-1" strike="noStrike">
                <a:solidFill>
                  <a:srgbClr val="dbf5f9"/>
                </a:solidFill>
                <a:latin typeface="Times New Roman"/>
                <a:ea typeface="Times New Roman"/>
              </a:rPr>
              <a:t>figure,imshow(Natija2)</a:t>
            </a:r>
            <a:endParaRPr b="0" lang="en-US" sz="16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3071880" y="4610160"/>
            <a:ext cx="6000840" cy="22478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3"/>
          <a:stretch/>
        </p:blipFill>
        <p:spPr>
          <a:xfrm>
            <a:off x="3071880" y="2357280"/>
            <a:ext cx="5997600" cy="22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1843200" y="1935000"/>
            <a:ext cx="545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2"/>
          <a:stretch/>
        </p:blipFill>
        <p:spPr>
          <a:xfrm>
            <a:off x="2071800" y="2031840"/>
            <a:ext cx="487368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68360" y="2276640"/>
            <a:ext cx="4076640" cy="40287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99000" y="2279520"/>
            <a:ext cx="40766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4:14:53Z</dcterms:created>
  <dc:creator>User</dc:creator>
  <dc:description/>
  <dc:language>en-US</dc:language>
  <cp:lastModifiedBy>USER_CHIP</cp:lastModifiedBy>
  <dcterms:modified xsi:type="dcterms:W3CDTF">2011-11-24T11:13:30Z</dcterms:modified>
  <cp:revision>17</cp:revision>
  <dc:subject/>
  <dc:title>Слайд 1</dc:title>
</cp:coreProperties>
</file>