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D60-F687-494B-947D-A827BBE6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568-1481-4110-A990-893AAB82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ACC-34DE-4009-ABB0-B03473D9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742F-6955-45AA-9A8E-54A938FD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B6A5-F494-4BFD-9188-4CEDCA82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D06C-3A10-40C7-BD50-5D1330EF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D1D7-0E0A-41EC-B158-07614C4D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5363-67CD-400B-BC5F-C9A90DB1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CF85-E2B3-4A75-8B85-D66523A7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A114-03CD-4EEA-AB3B-C8C898F3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30B1-35DB-479F-996B-570BAE91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87A-9670-45CB-B070-97FA184B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28F0-8981-49C0-BD6D-FEFA5B7D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1B2C-660A-46FB-962E-DE53BE43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0463-39FE-4ACB-8D4D-EEC5E9E4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C843-0D06-438F-8667-51417550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6AEF-4A9C-4DC2-B25E-99DAF1D7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C85-B5B5-4FE2-97FF-50B9E1D6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BCE-12DB-4CA7-A970-FF3BA977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A85-02A7-47A5-B4A0-117FB9EC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99E-B4FD-40F5-80AD-BD910F25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FA5-43FC-4BAE-8AC3-4B94EA03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2AD-CA6D-49B4-AC8C-C58F30FC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40F-0EB2-45FE-A5EA-73EEAA41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12AE-14D8-4AD3-A700-F9DC3AE200C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3150-3D6A-4AA9-B118-60444CA495F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93560" y="633240"/>
            <a:ext cx="7931160" cy="1487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643720" y="5072040"/>
            <a:ext cx="2914560" cy="900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202-AMT guruh talabasi Achilova Firuz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Прямоугольник 5" descr=""/>
          <p:cNvPicPr/>
          <p:nvPr/>
        </p:nvPicPr>
        <p:blipFill>
          <a:blip r:embed="rId3"/>
          <a:stretch/>
        </p:blipFill>
        <p:spPr>
          <a:xfrm>
            <a:off x="1090440" y="2444760"/>
            <a:ext cx="66027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98" name="Подзаголовок 2"/>
          <p:cNvGrpSpPr/>
          <p:nvPr/>
        </p:nvGrpSpPr>
        <p:grpSpPr>
          <a:xfrm>
            <a:off x="2023920" y="3584520"/>
            <a:ext cx="4741920" cy="774720"/>
            <a:chOff x="2023920" y="3584520"/>
            <a:chExt cx="4741920" cy="774720"/>
          </a:xfrm>
        </p:grpSpPr>
        <p:pic>
          <p:nvPicPr>
            <p:cNvPr id="99" name="Подзаголовок 2" descr=""/>
            <p:cNvPicPr/>
            <p:nvPr/>
          </p:nvPicPr>
          <p:blipFill>
            <a:blip r:embed="rId4"/>
            <a:stretch/>
          </p:blipFill>
          <p:spPr>
            <a:xfrm>
              <a:off x="2023920" y="3584520"/>
              <a:ext cx="47419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143080" y="3643200"/>
              <a:ext cx="4572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Mavzu:Tasvirni yorqinligini qayta ishlas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541008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mread('peppers.png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(10+[1:256],222+[1:256],: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I);title('Original Image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LEN = 3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HETA = 1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PSF = fspecial('motion',LEN,THETA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Blurred = imfilter(I,PSF,'circular','conv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 imshow(Blurred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Blurred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wnr1 = deconvwnr(Blurred,PSF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wnr1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Restored, True PSF');</a:t>
            </a:r>
            <a:br>
              <a:rPr sz="1800"/>
            </a:br>
            <a:endParaRPr b="0" lang="en-US" sz="1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32000" y="2205000"/>
            <a:ext cx="3754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716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1 = imread('football.jpg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2 = imadjust(RGB1,[.1 .2 .5; .9 .3 .8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3 = imadjust(RGB1,[.8 .9 0; .9 1 1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1=[RGB1 RGB2 RGB3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1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56000" y="4653000"/>
            <a:ext cx="61149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6875640" cy="2810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 = imread('pout.tif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J = imadjust(I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K = imadjust(I,[0.1 0.5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=[I J K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8580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tire.tif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2 = uint8(colfilt(I,[5 5],'sliding',@mean)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I I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'distinct' </a:t>
            </a: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UN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81200" y="2529000"/>
            <a:ext cx="5781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357192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rgb2ind(I,32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572080" y="785880"/>
            <a:ext cx="308124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572080" y="3357720"/>
            <a:ext cx="311472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1357200" y="3357720"/>
            <a:ext cx="31813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37576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bw=im2bw(I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gray2ind(bw,256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;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71880" y="4638600"/>
            <a:ext cx="3071880" cy="229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0" y="4643280"/>
            <a:ext cx="2962440" cy="221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6143760" y="2286000"/>
            <a:ext cx="305100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6215040" y="4626000"/>
            <a:ext cx="292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JUS1 = 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JUS2 = imadjust(JUS1,[.2 .3 0; .6 .7 0.9],[]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%imshow(JUS1), figure, imshow(JUS2)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JUS1 JUS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RGB2=imadjust(RGB1,[Low_in; High_in],[low_out; High_out],gamma]);</a:t>
            </a:r>
            <a:br>
              <a:rPr sz="20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14680" y="4572000"/>
            <a:ext cx="51433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D:\odam.jpg'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%  figure, imshow(I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1 = imopen(I,strel('line',20,4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2 = imopen(I,strel('disk',1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3 = imopen(I,strel('square',18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4 = imopen(I,strel('ball',12,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2=[bg3 bg4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1=[bg1 bg2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 imshow(Natija1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imshow(Natija2)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3071880" y="4610160"/>
            <a:ext cx="6000840" cy="2247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3071880" y="2357280"/>
            <a:ext cx="5997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843200" y="1935000"/>
            <a:ext cx="5457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2071800" y="2031840"/>
            <a:ext cx="48736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076640" cy="4028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99000" y="2279520"/>
            <a:ext cx="40766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14:53Z</dcterms:created>
  <dc:creator>User</dc:creator>
  <dc:description/>
  <dc:language>en-US</dc:language>
  <cp:lastModifiedBy>USER_CHIP</cp:lastModifiedBy>
  <dcterms:modified xsi:type="dcterms:W3CDTF">2011-11-24T11:13:30Z</dcterms:modified>
  <cp:revision>17</cp:revision>
  <dc:subject/>
  <dc:title>Слайд 1</dc:title>
</cp:coreProperties>
</file>