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796A8-45E6-4026-AF2F-67F5E146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7A4A8-EAF9-4E51-9855-10F398181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B2C99-FBA5-4614-8D24-AC3FBE017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78E58C-EF6E-4F8A-BC26-A0136A3B4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A9793-837B-4B79-BD79-E228E3F8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B60B5-7AF9-43CB-99E4-8833C965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6141-827E-4C88-8F33-CBCEE0DE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AE02-C175-4002-AE59-AE51574E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C514-FC23-478A-AC9C-95BE9A8F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0E97-A3A4-41ED-908E-6752C98A6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232B-17AE-4B07-A7DC-CD777C5C8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F1B63-2398-4A62-AD1A-031E30117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65C8-5669-4107-9DD4-7254FD6C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69A1F-8D16-4A6D-AE54-AA7351055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AC02F-C8E4-4EA4-A6E4-DDCC52524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F7F3-B9CB-40CF-9872-DF619D652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B23B-1CFD-4AA2-9577-3A94E28A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E71FD-5A54-4BAD-B101-BF6F3F11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9A243B-593B-4AD7-843C-78C1390C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559E7-CFD0-4CF0-AE83-0769FF9C5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4B7C9-55F7-4D09-8A40-2D340997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597041-2A89-4A23-ACA2-FAE0A8E9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0262B-278E-427F-B96C-6D030B92A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77960F-A33D-48A8-856B-D96E8F63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3B0C-197C-4843-83D5-97E5982EF18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D88EB-FE23-4398-9CFE-0E5C53FBBE4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TajMahalbyAmalMongia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uz.wikipedia.org/w/index.php?title=Toj_Mahal&amp;action=edit&amp;redlink=1" TargetMode="External"/><Relationship Id="rId4" Type="http://schemas.openxmlformats.org/officeDocument/2006/relationships/hyperlink" Target="http://uz.wikipedia.org/w/index.php?title=Toj_Mahal&amp;action=edit&amp;redlink=1" TargetMode="External"/><Relationship Id="rId5" Type="http://schemas.openxmlformats.org/officeDocument/2006/relationships/hyperlink" Target="http://uz.wikipedia.org/w/index.php?title=Toj_Mahal&amp;action=edit&amp;redlink=1" TargetMode="External"/><Relationship Id="rId6" Type="http://schemas.openxmlformats.org/officeDocument/2006/relationships/hyperlink" Target="http://uz.wikipedia.org/w/index.php?title=Agra&amp;action=edit&amp;redlink=1" TargetMode="External"/><Relationship Id="rId7" Type="http://schemas.openxmlformats.org/officeDocument/2006/relationships/hyperlink" Target="http://uz.wikipedia.org/wiki/Hindiston" TargetMode="External"/><Relationship Id="rId8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aris_06_Eiffelturm_4828.jpg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uz.wikipedia.org/wiki/Eyfel_minorasi" TargetMode="External"/><Relationship Id="rId4" Type="http://schemas.openxmlformats.org/officeDocument/2006/relationships/hyperlink" Target="http://uz.wikipedia.org/wiki/Eyfel_minorasi" TargetMode="External"/><Relationship Id="rId5" Type="http://schemas.openxmlformats.org/officeDocument/2006/relationships/hyperlink" Target="http://uz.wikipedia.org/wiki/Eyfel_minorasi" TargetMode="External"/><Relationship Id="rId6" Type="http://schemas.openxmlformats.org/officeDocument/2006/relationships/hyperlink" Target="http://uz.wikipedia.org/wiki/Parij" TargetMode="External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El_Castillo,_Chich&#233;n_Itz&#225;.jpg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uz.wikipedia.org/w/index.php?title=Chichen_Itsa&amp;action=edit&amp;redlink=1" TargetMode="External"/><Relationship Id="rId4" Type="http://schemas.openxmlformats.org/officeDocument/2006/relationships/hyperlink" Target="http://uz.wikipedia.org/w/index.php?title=Chichen_Itsa&amp;action=edit&amp;redlink=1" TargetMode="External"/><Relationship Id="rId5" Type="http://schemas.openxmlformats.org/officeDocument/2006/relationships/hyperlink" Target="http://uz.wikipedia.org/w/index.php?title=Chichen_Itsa&amp;action=edit&amp;redlink=1" TargetMode="External"/><Relationship Id="rId6" Type="http://schemas.openxmlformats.org/officeDocument/2006/relationships/hyperlink" Target="http://uz.wikipedia.org/w/index.php?title=Yukatan&amp;action=edit&amp;redlink=1" TargetMode="External"/><Relationship Id="rId7" Type="http://schemas.openxmlformats.org/officeDocument/2006/relationships/hyperlink" Target="http://uz.wikipedia.org/wiki/Meksika" TargetMode="External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rcovadofotoRJ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uz.wikipedia.org/w/index.php?title=Isoning_haykali&amp;action=edit&amp;redlink=1" TargetMode="External"/><Relationship Id="rId4" Type="http://schemas.openxmlformats.org/officeDocument/2006/relationships/hyperlink" Target="http://uz.wikipedia.org/w/index.php?title=Isoning_haykali&amp;action=edit&amp;redlink=1" TargetMode="External"/><Relationship Id="rId5" Type="http://schemas.openxmlformats.org/officeDocument/2006/relationships/hyperlink" Target="http://uz.wikipedia.org/w/index.php?title=Isoning_haykali&amp;action=edit&amp;redlink=1" TargetMode="External"/><Relationship Id="rId6" Type="http://schemas.openxmlformats.org/officeDocument/2006/relationships/hyperlink" Target="http://uz.wikipedia.org/w/index.php?title=Rio_de_Janeyro&amp;action=edit&amp;redlink=1" TargetMode="External"/><Relationship Id="rId7" Type="http://schemas.openxmlformats.org/officeDocument/2006/relationships/hyperlink" Target="http://uz.wikipedia.org/w/index.php?title=Rio_de_Janeyro&amp;action=edit&amp;redlink=1" TargetMode="External"/><Relationship Id="rId8" Type="http://schemas.openxmlformats.org/officeDocument/2006/relationships/hyperlink" Target="http://uz.wikipedia.org/w/index.php?title=Rio_de_Janeyro&amp;action=edit&amp;redlink=1" TargetMode="External"/><Relationship Id="rId9" Type="http://schemas.openxmlformats.org/officeDocument/2006/relationships/hyperlink" Target="http://uz.wikipedia.org/w/index.php?title=Rio_de_Janeyro&amp;action=edit&amp;redlink=1" TargetMode="External"/><Relationship Id="rId10" Type="http://schemas.openxmlformats.org/officeDocument/2006/relationships/hyperlink" Target="http://uz.wikipedia.org/w/index.php?title=Rio_de_Janeyro&amp;action=edit&amp;redlink=1" TargetMode="External"/><Relationship Id="rId11" Type="http://schemas.openxmlformats.org/officeDocument/2006/relationships/hyperlink" Target="http://uz.wikipedia.org/wiki/Braziliya" TargetMode="External"/><Relationship Id="rId1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Colosseum_in_Rome,_Italy_-_April_2007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uz.wikipedia.org/wiki/Kolizey" TargetMode="External"/><Relationship Id="rId4" Type="http://schemas.openxmlformats.org/officeDocument/2006/relationships/hyperlink" Target="http://uz.wikipedia.org/wiki/Rim" TargetMode="External"/><Relationship Id="rId5" Type="http://schemas.openxmlformats.org/officeDocument/2006/relationships/hyperlink" Target="http://uz.wikipedia.org/wiki/Italiya" TargetMode="External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GreatWallNearBeijingWinter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uz.wikipedia.org/w/index.php?title=Buyuk_Xitoy_devori&amp;action=edit&amp;redlink=1" TargetMode="External"/><Relationship Id="rId4" Type="http://schemas.openxmlformats.org/officeDocument/2006/relationships/hyperlink" Target="http://uz.wikipedia.org/w/index.php?title=Buyuk_Xitoy_devori&amp;action=edit&amp;redlink=1" TargetMode="External"/><Relationship Id="rId5" Type="http://schemas.openxmlformats.org/officeDocument/2006/relationships/hyperlink" Target="http://uz.wikipedia.org/w/index.php?title=Buyuk_Xitoy_devori&amp;action=edit&amp;redlink=1" TargetMode="External"/><Relationship Id="rId6" Type="http://schemas.openxmlformats.org/officeDocument/2006/relationships/hyperlink" Target="http://uz.wikipedia.org/w/index.php?title=Buyuk_Xitoy_devori&amp;action=edit&amp;redlink=1" TargetMode="External"/><Relationship Id="rId7" Type="http://schemas.openxmlformats.org/officeDocument/2006/relationships/hyperlink" Target="http://uz.wikipedia.org/w/index.php?title=Buyuk_Xitoy_devori&amp;action=edit&amp;redlink=1" TargetMode="External"/><Relationship Id="rId8" Type="http://schemas.openxmlformats.org/officeDocument/2006/relationships/hyperlink" Target="http://uz.wikipedia.org/wiki/Xitoy" TargetMode="External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ru_Machu_Picchu_Sunrise.jpg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uz.wikipedia.org/w/index.php?title=Machu_Pikchu&amp;action=edit&amp;redlink=1" TargetMode="External"/><Relationship Id="rId4" Type="http://schemas.openxmlformats.org/officeDocument/2006/relationships/hyperlink" Target="http://uz.wikipedia.org/w/index.php?title=Machu_Pikchu&amp;action=edit&amp;redlink=1" TargetMode="External"/><Relationship Id="rId5" Type="http://schemas.openxmlformats.org/officeDocument/2006/relationships/hyperlink" Target="http://uz.wikipedia.org/w/index.php?title=Machu_Pikchu&amp;action=edit&amp;redlink=1" TargetMode="External"/><Relationship Id="rId6" Type="http://schemas.openxmlformats.org/officeDocument/2006/relationships/hyperlink" Target="http://uz.wikipedia.org/wiki/Peru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uz.wikipedia.org/wiki/Tasvir:Petra_Jordan_BW_21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uz.wikipedia.org/w/index.php?title=Petra&amp;action=edit&amp;redlink=1" TargetMode="External"/><Relationship Id="rId4" Type="http://schemas.openxmlformats.org/officeDocument/2006/relationships/hyperlink" Target="http://uz.wikipedia.org/wiki/Iordaniya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24000" y="333360"/>
            <a:ext cx="8820000" cy="13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`ZBEKISTON RESPUBLIKASI OLIY VA O`RTA MAXSUS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`LIM VAZIRLIG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SHKENT DAVLAT IQTISODIYOT UNIVERSIT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59280" y="1700280"/>
            <a:ext cx="6084720" cy="244944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afedra: “Falsaf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an: “Estetika, etika, mantiq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4221000"/>
            <a:ext cx="8604360" cy="719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VZU: Estetikaning tadqiqot doirasi, axloqning kelib chiqis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50920" y="4941720"/>
            <a:ext cx="7093080" cy="19162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jardi: IIT – 51 guruh talabasi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madiyorov Rust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kshirdi: kt o`qituv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idov Aslid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95280" y="1484280"/>
            <a:ext cx="8748720" cy="2449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бдулла Авлоний «Туркий гулистон ёхуд ахлоқ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соласини шундай бошлайди: «Ахлоқ инсон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яхшилик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ақиргувчи, ёмонликдан қайтарг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р илмдур. Яхши хулқларнинг яхшилигини, ё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ларнинг ёмонлигин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далил ва мисоллар ила баё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ладурғон китобни ахлоқ дейилур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620640"/>
            <a:ext cx="820908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Фитратнинг фикрич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TajMahalbyAmalMong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24360" y="4076640"/>
            <a:ext cx="4680000" cy="2781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11280" y="4365720"/>
            <a:ext cx="309708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Toj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ah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Agra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Hindis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24000" y="1413000"/>
            <a:ext cx="4752720" cy="5111640"/>
          </a:xfrm>
          <a:custGeom>
            <a:avLst/>
            <a:gdLst>
              <a:gd name="textAreaLeft" fmla="*/ 231840 w 4752720"/>
              <a:gd name="textAreaRight" fmla="*/ 4520880 w 4752720"/>
              <a:gd name="textAreaTop" fmla="*/ 231840 h 5111640"/>
              <a:gd name="textAreaBottom" fmla="*/ 4879800 h 5111640"/>
            </a:gdLst>
            <a:ahLst/>
            <a:rect l="textAreaLeft" t="textAreaTop" r="textAreaRight" b="textAreaBottom"/>
            <a:pathLst>
              <a:path w="21600" h="23231">
                <a:moveTo>
                  <a:pt x="3600" y="0"/>
                </a:moveTo>
                <a:arcTo wR="3600" hR="3600" stAng="16200000" swAng="-5400000"/>
                <a:lnTo>
                  <a:pt x="0" y="19631"/>
                </a:lnTo>
                <a:arcTo wR="3600" hR="3600" stAng="10800000" swAng="-5400000"/>
                <a:lnTo>
                  <a:pt x="18000" y="2323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Икки нарса ҳақида қанч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п, қанча узоқ ўйлаган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и қалбинг тобора янг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бора кучайиб борувч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айрат в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ихлос билан тўл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ошаверади, булар – боши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стидаги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юлдузли осмо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ва менинг ботинимд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қонун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549360"/>
            <a:ext cx="8280360" cy="718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нт айтадики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Paris 06 Eiffelturm 4828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292720" y="1700280"/>
            <a:ext cx="3456000" cy="36734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5364000" y="5589720"/>
            <a:ext cx="3456000" cy="93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Eyfel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minora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arij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Frans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95280" y="1484280"/>
            <a:ext cx="8748720" cy="2521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у дунё кураш майдонидир. Бу майдон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уроли соғлом жисму тан, ақл ва ахлоқдир. Ле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на шу қурол-аслаҳамиз синиб, занг босиб, чири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етган сар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ундай қуроллар билан бу дунёда бизга 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аод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ва на роҳат бор...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620640"/>
            <a:ext cx="820908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егель таърифлайд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Angkor wat temple.jpg"/>
          <p:cNvPicPr/>
          <p:nvPr/>
        </p:nvPicPr>
        <p:blipFill>
          <a:blip r:embed="rId1"/>
          <a:stretch/>
        </p:blipFill>
        <p:spPr>
          <a:xfrm>
            <a:off x="468360" y="4221000"/>
            <a:ext cx="4174920" cy="2303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932360" y="4365720"/>
            <a:ext cx="324000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Angko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Kamb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68360" y="549360"/>
            <a:ext cx="8567640" cy="3166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J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etikaning falsafiy  moxiya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Axloq xaqida asosiy tushunchal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Allomalarning bu fanga qo`shgan xissas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63640" y="3933720"/>
            <a:ext cx="561672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1628640"/>
            <a:ext cx="8820000" cy="23767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Фалсафани азим дарахтга, чинорга қиё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қилсак, унинг илдизи табиат ҳақидаги таълимотлар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пояси – мантиқ,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z-Cyrl-UZ" sz="2400" spc="-1" strike="noStrike">
                <a:solidFill>
                  <a:srgbClr val="000000"/>
                </a:solidFill>
                <a:latin typeface="Arial"/>
              </a:rPr>
              <a:t> меваси эса – этикадир.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арҳақиқа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билим – ақл булоғи, ахлоқ эса - ҳаё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чироғидир, ёки билим – хазина, ахлоқ эс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фазилатди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042920" y="476280"/>
            <a:ext cx="8101080" cy="1008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димги антик давр донишмандларининг фикр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El Castillo, Chichén Itzá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419640" y="41497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95280" y="4221000"/>
            <a:ext cx="2664000" cy="230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Chichen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Yukatan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Meks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24000" y="1268280"/>
            <a:ext cx="8820000" cy="230508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инсон ҳақида ёқимли таассурот уйғотадиган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лекин жамоа, жамият  ҳаётида бурилиш ясайдиг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аражад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муҳим аҳамиятга эга бўлмайдиган, милл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урф-одатларга асосланга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чиройли хатти-ҳаракат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ичига олад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76360" y="549360"/>
            <a:ext cx="7343640" cy="576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об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CorcovadofotoRJ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3716280"/>
            <a:ext cx="3166920" cy="3141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4211640" y="3716280"/>
            <a:ext cx="3529080" cy="28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Isoning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hayk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Rio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de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9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0"/>
              </a:rPr>
              <a:t>Janeyro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11"/>
              </a:rPr>
              <a:t>Brazi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24000" y="1484280"/>
            <a:ext cx="882000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ила, жамоа, маҳалла-кўй миқёсида аҳамиятли бўлган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ммо жамият ва инсоният ҳаётига сезиларли таъси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ўрсатмайдиган ёқимли инсоний хатти-ҳаракатларнин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мажму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00000" y="620640"/>
            <a:ext cx="7920000" cy="7207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Хулқ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Colosseum in Rome, Italy - April 2007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7280" y="4076640"/>
            <a:ext cx="4465440" cy="27813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4365720"/>
            <a:ext cx="31687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Koliz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Rim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Ital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395280" y="1484280"/>
            <a:ext cx="8748720" cy="280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...барча одамлар учун бирдек тааллуқл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ҳисобланган, шахс ҳаётидаги ҳамма соҳаларда ўзига 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ўзгаларга нисбатан қўйиладиган маънавий-ижтимо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талаблар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ҳамда эҳтиёжларнинг муносабатлар шаклидаг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кўринишидан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 иборат бўлган, инсонга берилган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хтиёр эканлигининг хатти-ҳаракатлар жараёнида ич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ирода кучи томонидан оқилона чекланишини тақозо этувч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200" spc="-1" strike="noStrike">
                <a:solidFill>
                  <a:srgbClr val="000000"/>
                </a:solidFill>
                <a:latin typeface="Arial"/>
              </a:rPr>
              <a:t>маънавий ҳодис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1280" y="476280"/>
            <a:ext cx="8208720" cy="863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</a:t>
            </a:r>
            <a:r>
              <a:rPr b="0" lang="uz-Cyrl-UZ" sz="24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GreatWallNearBeijingWint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68360" y="4437000"/>
            <a:ext cx="4680000" cy="2421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435640" y="4581360"/>
            <a:ext cx="288144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Buyuk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Xitoy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7"/>
              </a:rPr>
              <a:t>dev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8"/>
              </a:rPr>
              <a:t>Xito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68360" y="1484280"/>
            <a:ext cx="867564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«Билгилким, ҳамма касбларга бирдай тааллуқ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исқача қоида-адаблар мавжуд, шунингдек, ҳар б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 учун алоҳида одоб ҳам бор. Агар барч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касблар учун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зарурий одоблар хулосани нечт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деб сўрасалар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тўртт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(саккизта) деб айтгил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1280" y="620640"/>
            <a:ext cx="8532720" cy="64764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Ҳусайн Воиз Кошифий ёзади:</a:t>
            </a:r>
            <a:r>
              <a:rPr b="0" lang="uz-Cyrl-U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Peru Machu Picchu Sunrise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280" y="4076640"/>
            <a:ext cx="3960720" cy="244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932360" y="4292640"/>
            <a:ext cx="309564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Machu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 </a:t>
            </a: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Pikc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P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187280" y="549360"/>
            <a:ext cx="7956720" cy="93492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ўз касбини ҳаромдан, шубҳали мол-маблағд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пок сақл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54936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1700280"/>
            <a:ext cx="7956720" cy="144144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ризқ-рўзи зарурати учунгина керакли касб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билан шуғуллансин, касбни мол-дунё тўплаш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сарфлама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87280" y="3284640"/>
            <a:ext cx="7956720" cy="10080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сбни обрў олиш, яхши ном чиқаришнинг сабаб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б билс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508640"/>
            <a:ext cx="7956720" cy="1368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ли ҳаром одамлар (амалдорлар, порахўрлар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қароқчилар, ўғрилар, қиморбозлар, каззо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ўкондорлар)билан муомала қилмасин..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916280"/>
            <a:ext cx="720720" cy="11523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4000" y="3357720"/>
            <a:ext cx="720720" cy="9349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4000" y="4581360"/>
            <a:ext cx="720720" cy="1224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84280"/>
            <a:ext cx="8748720" cy="237636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...одоблилик – хушхулқлиликка, хушхулқлилик – юкса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ликка айланган каби, ахлоқий тарбия йўл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қўйилмаган жойда муайян шахс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вақти келиб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одобсизликдан – бадхулқлиликка, бадхулқлиликдан 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сизликка ўтиши мумкин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549360"/>
            <a:ext cx="8209080" cy="7920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z-Cyrl-UZ" sz="2400" spc="-1" strike="noStrike">
                <a:solidFill>
                  <a:srgbClr val="000000"/>
                </a:solidFill>
                <a:latin typeface="Arial"/>
              </a:rPr>
              <a:t>Ахлоқий тарбия натижасида..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Petra Jordan BW 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284720" y="4076640"/>
            <a:ext cx="4390920" cy="2781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437000"/>
            <a:ext cx="302400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Pet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Iordaniy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3T17:02:26Z</dcterms:created>
  <dc:creator>Talaba</dc:creator>
  <dc:description/>
  <dc:language>en-US</dc:language>
  <cp:lastModifiedBy>USER_CHIP</cp:lastModifiedBy>
  <dcterms:modified xsi:type="dcterms:W3CDTF">2011-12-07T04:03:45Z</dcterms:modified>
  <cp:revision>26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