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FCE55-0E68-4ED4-AFAD-C500C73A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B0B2E-01C8-4B80-ACF6-434205D6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011CE-7172-4102-B1F4-DA4BB818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3190E-B4A6-41A1-A083-8A2D9B86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63470-B565-412F-B136-CDDC0EF2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64EFE-B1C4-4EFB-ACB0-6F28A94A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68030-5B50-42F8-9E38-8019F934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2687-49F8-404C-A0FE-33196591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B1E8-9199-4B60-999C-48358BCE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1C6E8-7783-4E0E-B2DA-5667F79E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10F3-8628-4FCD-87E7-CBECA3D2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CB453-4C07-437B-8AEB-C610B1CC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4F584-AA7E-4B49-929C-82BA0DE9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3FF5-0D81-4CE1-8A9D-1BE6518C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A020-929D-4725-83FA-151809E17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1EB9A-8E1D-4869-835B-42B43115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06030-A186-41AD-BFF0-4796B079B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3B5D1-F8B3-42CC-B0B7-407C6071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277E7-B37D-4CA1-BDF2-15F44B34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B4974-9A68-4E27-820B-C90DBE4C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50B1-6B0E-4E6F-AB9C-30C8F972B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D93CC-F728-462B-BA48-E058C38C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B2B24-396C-4155-97DC-F0B2108B3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87255-3D32-4D41-84B7-F205E500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8B2D4-9118-4DF4-B959-F553E78BBF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3E16-12D8-40A2-A0EB-38A47DD22B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TajMahalbyAmalMongia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z.wikipedia.org/w/index.php?title=Toj_Mahal&amp;action=edit&amp;redlink=1" TargetMode="External"/><Relationship Id="rId4" Type="http://schemas.openxmlformats.org/officeDocument/2006/relationships/hyperlink" Target="http://uz.wikipedia.org/w/index.php?title=Toj_Mahal&amp;action=edit&amp;redlink=1" TargetMode="External"/><Relationship Id="rId5" Type="http://schemas.openxmlformats.org/officeDocument/2006/relationships/hyperlink" Target="http://uz.wikipedia.org/w/index.php?title=Toj_Mahal&amp;action=edit&amp;redlink=1" TargetMode="External"/><Relationship Id="rId6" Type="http://schemas.openxmlformats.org/officeDocument/2006/relationships/hyperlink" Target="http://uz.wikipedia.org/w/index.php?title=Agra&amp;action=edit&amp;redlink=1" TargetMode="External"/><Relationship Id="rId7" Type="http://schemas.openxmlformats.org/officeDocument/2006/relationships/hyperlink" Target="http://uz.wikipedia.org/wiki/Hindiston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aris_06_Eiffelturm_4828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uz.wikipedia.org/wiki/Eyfel_minorasi" TargetMode="External"/><Relationship Id="rId4" Type="http://schemas.openxmlformats.org/officeDocument/2006/relationships/hyperlink" Target="http://uz.wikipedia.org/wiki/Eyfel_minorasi" TargetMode="External"/><Relationship Id="rId5" Type="http://schemas.openxmlformats.org/officeDocument/2006/relationships/hyperlink" Target="http://uz.wikipedia.org/wiki/Eyfel_minorasi" TargetMode="External"/><Relationship Id="rId6" Type="http://schemas.openxmlformats.org/officeDocument/2006/relationships/hyperlink" Target="http://uz.wikipedia.org/wiki/Parij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El_Castillo,_Chich&#233;n_Itz&#225;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uz.wikipedia.org/w/index.php?title=Chichen_Itsa&amp;action=edit&amp;redlink=1" TargetMode="External"/><Relationship Id="rId4" Type="http://schemas.openxmlformats.org/officeDocument/2006/relationships/hyperlink" Target="http://uz.wikipedia.org/w/index.php?title=Chichen_Itsa&amp;action=edit&amp;redlink=1" TargetMode="External"/><Relationship Id="rId5" Type="http://schemas.openxmlformats.org/officeDocument/2006/relationships/hyperlink" Target="http://uz.wikipedia.org/w/index.php?title=Chichen_Itsa&amp;action=edit&amp;redlink=1" TargetMode="External"/><Relationship Id="rId6" Type="http://schemas.openxmlformats.org/officeDocument/2006/relationships/hyperlink" Target="http://uz.wikipedia.org/w/index.php?title=Yukatan&amp;action=edit&amp;redlink=1" TargetMode="External"/><Relationship Id="rId7" Type="http://schemas.openxmlformats.org/officeDocument/2006/relationships/hyperlink" Target="http://uz.wikipedia.org/wiki/Meksika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rcovadofotoRJ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z.wikipedia.org/w/index.php?title=Isoning_haykali&amp;action=edit&amp;redlink=1" TargetMode="External"/><Relationship Id="rId4" Type="http://schemas.openxmlformats.org/officeDocument/2006/relationships/hyperlink" Target="http://uz.wikipedia.org/w/index.php?title=Isoning_haykali&amp;action=edit&amp;redlink=1" TargetMode="External"/><Relationship Id="rId5" Type="http://schemas.openxmlformats.org/officeDocument/2006/relationships/hyperlink" Target="http://uz.wikipedia.org/w/index.php?title=Isoning_haykali&amp;action=edit&amp;redlink=1" TargetMode="External"/><Relationship Id="rId6" Type="http://schemas.openxmlformats.org/officeDocument/2006/relationships/hyperlink" Target="http://uz.wikipedia.org/w/index.php?title=Rio_de_Janeyro&amp;action=edit&amp;redlink=1" TargetMode="External"/><Relationship Id="rId7" Type="http://schemas.openxmlformats.org/officeDocument/2006/relationships/hyperlink" Target="http://uz.wikipedia.org/w/index.php?title=Rio_de_Janeyro&amp;action=edit&amp;redlink=1" TargetMode="External"/><Relationship Id="rId8" Type="http://schemas.openxmlformats.org/officeDocument/2006/relationships/hyperlink" Target="http://uz.wikipedia.org/w/index.php?title=Rio_de_Janeyro&amp;action=edit&amp;redlink=1" TargetMode="External"/><Relationship Id="rId9" Type="http://schemas.openxmlformats.org/officeDocument/2006/relationships/hyperlink" Target="http://uz.wikipedia.org/w/index.php?title=Rio_de_Janeyro&amp;action=edit&amp;redlink=1" TargetMode="External"/><Relationship Id="rId10" Type="http://schemas.openxmlformats.org/officeDocument/2006/relationships/hyperlink" Target="http://uz.wikipedia.org/w/index.php?title=Rio_de_Janeyro&amp;action=edit&amp;redlink=1" TargetMode="External"/><Relationship Id="rId11" Type="http://schemas.openxmlformats.org/officeDocument/2006/relationships/hyperlink" Target="http://uz.wikipedia.org/wiki/Braziliya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losseum_in_Rome,_Italy_-_April_2007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z.wikipedia.org/wiki/Kolizey" TargetMode="External"/><Relationship Id="rId4" Type="http://schemas.openxmlformats.org/officeDocument/2006/relationships/hyperlink" Target="http://uz.wikipedia.org/wiki/Rim" TargetMode="External"/><Relationship Id="rId5" Type="http://schemas.openxmlformats.org/officeDocument/2006/relationships/hyperlink" Target="http://uz.wikipedia.org/wiki/Italiya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GreatWallNearBeijingWinter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z.wikipedia.org/w/index.php?title=Buyuk_Xitoy_devori&amp;action=edit&amp;redlink=1" TargetMode="External"/><Relationship Id="rId4" Type="http://schemas.openxmlformats.org/officeDocument/2006/relationships/hyperlink" Target="http://uz.wikipedia.org/w/index.php?title=Buyuk_Xitoy_devori&amp;action=edit&amp;redlink=1" TargetMode="External"/><Relationship Id="rId5" Type="http://schemas.openxmlformats.org/officeDocument/2006/relationships/hyperlink" Target="http://uz.wikipedia.org/w/index.php?title=Buyuk_Xitoy_devori&amp;action=edit&amp;redlink=1" TargetMode="External"/><Relationship Id="rId6" Type="http://schemas.openxmlformats.org/officeDocument/2006/relationships/hyperlink" Target="http://uz.wikipedia.org/w/index.php?title=Buyuk_Xitoy_devori&amp;action=edit&amp;redlink=1" TargetMode="External"/><Relationship Id="rId7" Type="http://schemas.openxmlformats.org/officeDocument/2006/relationships/hyperlink" Target="http://uz.wikipedia.org/w/index.php?title=Buyuk_Xitoy_devori&amp;action=edit&amp;redlink=1" TargetMode="External"/><Relationship Id="rId8" Type="http://schemas.openxmlformats.org/officeDocument/2006/relationships/hyperlink" Target="http://uz.wikipedia.org/wiki/Xitoy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ru_Machu_Picchu_Sunrise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z.wikipedia.org/w/index.php?title=Machu_Pikchu&amp;action=edit&amp;redlink=1" TargetMode="External"/><Relationship Id="rId4" Type="http://schemas.openxmlformats.org/officeDocument/2006/relationships/hyperlink" Target="http://uz.wikipedia.org/w/index.php?title=Machu_Pikchu&amp;action=edit&amp;redlink=1" TargetMode="External"/><Relationship Id="rId5" Type="http://schemas.openxmlformats.org/officeDocument/2006/relationships/hyperlink" Target="http://uz.wikipedia.org/w/index.php?title=Machu_Pikchu&amp;action=edit&amp;redlink=1" TargetMode="External"/><Relationship Id="rId6" Type="http://schemas.openxmlformats.org/officeDocument/2006/relationships/hyperlink" Target="http://uz.wikipedia.org/wiki/Peru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tra_Jordan_BW_2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uz.wikipedia.org/w/index.php?title=Petra&amp;action=edit&amp;redlink=1" TargetMode="External"/><Relationship Id="rId4" Type="http://schemas.openxmlformats.org/officeDocument/2006/relationships/hyperlink" Target="http://uz.wikipedia.org/wiki/Iordaniya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333360"/>
            <a:ext cx="8820000" cy="13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`ZBEKISTON RESPUBLIKASI OLIY VA O`RTA MAXSU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`LIM VAZIRLI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SHKENT DAVLAT IQTISODIYOT UNIVERSIT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1700280"/>
            <a:ext cx="6084720" cy="24494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fedra: “Falsaf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n: “Estetika, etika, mantiq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221000"/>
            <a:ext cx="8604360" cy="719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VZU: Estetikaning tadqiqot doirasi, axloqning kelib chiq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4941720"/>
            <a:ext cx="7093080" cy="1916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rdi: IIT – 51 guruh talabasi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madiyorov Rus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shirdi: kt o`qituv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idov Aslid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1484280"/>
            <a:ext cx="8748720" cy="2449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бдулла Авлоний «Туркий гулистон ёхуд ахл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соласини шундай бошлайди: «Ахлоқ инсон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яхшилик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ақиргувчи, ёмонликдан қайтарг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р илмдур. Яхши хулқларнинг яхшилигини, ё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ларнинг ёмонлиги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далил ва мисоллар ила баё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ладурғон китобни ахлоқ дейилур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620640"/>
            <a:ext cx="820908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Фитратнинг фикрич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TajMahalbyAmalMong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076640"/>
            <a:ext cx="4680000" cy="278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4365720"/>
            <a:ext cx="309708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Toj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a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Agr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Hindi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1413000"/>
            <a:ext cx="4752720" cy="5111640"/>
          </a:xfrm>
          <a:custGeom>
            <a:avLst/>
            <a:gdLst>
              <a:gd name="textAreaLeft" fmla="*/ 231840 w 4752720"/>
              <a:gd name="textAreaRight" fmla="*/ 4520880 w 4752720"/>
              <a:gd name="textAreaTop" fmla="*/ 231840 h 5111640"/>
              <a:gd name="textAreaBottom" fmla="*/ 4879800 h 5111640"/>
            </a:gdLst>
            <a:ahLst/>
            <a:rect l="textAreaLeft" t="textAreaTop" r="textAreaRight" b="textAreaBottom"/>
            <a:pathLst>
              <a:path w="21600" h="23231">
                <a:moveTo>
                  <a:pt x="3600" y="0"/>
                </a:moveTo>
                <a:arcTo wR="3600" hR="3600" stAng="16200000" swAng="-5400000"/>
                <a:lnTo>
                  <a:pt x="0" y="19631"/>
                </a:lnTo>
                <a:arcTo wR="3600" hR="3600" stAng="10800000" swAng="-5400000"/>
                <a:lnTo>
                  <a:pt x="18000" y="232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Икки нарса ҳақида қан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п, қанча узоқ ўйлага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и қалбинг тобора ян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бора кучайиб бор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айрат 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ихлос билан тўл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шаверади, булар – бо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стидаг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юлдузли осм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ва менинг ботинимд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қонун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9360"/>
            <a:ext cx="8280360" cy="71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нт айтадики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Paris 06 Eiffelturm 482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3673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64000" y="5589720"/>
            <a:ext cx="3456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Eyfel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ino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arij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Frans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1484280"/>
            <a:ext cx="8748720" cy="252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у дунё кураш майдонидир. Бу майдон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уроли соғлом жисму тан, ақл ва ахлоқдир. Ле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на шу қурол-аслаҳамиз синиб, занг босиб, чир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етган сар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ндай қуроллар билан бу дунёда бизг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од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а на роҳат бор...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620640"/>
            <a:ext cx="820908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егель таърифлай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Angkor wat temple.jpg"/>
          <p:cNvPicPr/>
          <p:nvPr/>
        </p:nvPicPr>
        <p:blipFill>
          <a:blip r:embed="rId1"/>
          <a:stretch/>
        </p:blipFill>
        <p:spPr>
          <a:xfrm>
            <a:off x="468360" y="4221000"/>
            <a:ext cx="4174920" cy="2303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32360" y="4365720"/>
            <a:ext cx="324000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Kamb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567640" cy="31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tikaning falsafiy  moxiy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xloq xaqida asosiy tushunch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omalarning bu fanga qo`shgan xissa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61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628640"/>
            <a:ext cx="8820000" cy="23767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Фалсафани азим дарахтга, чинорга қиё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қилсак, унинг илдизи табиат ҳақидаги таълимотл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пояси – мантиқ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меваси эса – этикадир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рҳақиқ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илим – ақл булоғи, ахлоқ эса - ҳа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роғидир, ёки билим – хазина, ахлоқ э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азилатди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76280"/>
            <a:ext cx="8101080" cy="100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димги антик давр донишмандларининг фик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El Castillo, Chichén Itzá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41497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4221000"/>
            <a:ext cx="266400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hichen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Yukatan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Meks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268280"/>
            <a:ext cx="8820000" cy="2305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инсон ҳақида ёқимли таассурот уйғотадиг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лекин жамоа, жамият  ҳаётида бурилиш ясайди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аража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муҳим аҳамиятга эга бўлмайдиган, милл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рф-одатларга асосланг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иройли хатти-ҳаракат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ичига олад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549360"/>
            <a:ext cx="734364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об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CorcovadofotoRJ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716280"/>
            <a:ext cx="3166920" cy="3141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11640" y="3716280"/>
            <a:ext cx="352908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Isoning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ayk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Rio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de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Janeyr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Brazi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484280"/>
            <a:ext cx="882000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ила, жамоа, маҳалла-кўй миқёсида аҳамиятли бўлг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ммо жамият ва инсоният ҳаётига сезиларли таъс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рсатмайдиган ёқимли инсоний хатти-ҳаракатлар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мажму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620640"/>
            <a:ext cx="792000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Colosseum in Rome, Italy - April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76640"/>
            <a:ext cx="4465440" cy="27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4365720"/>
            <a:ext cx="316872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Koliz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i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a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484280"/>
            <a:ext cx="8748720" cy="280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...барча одамлар учун бирдек тааллуқ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ҳисобланган, шахс ҳаётидаги ҳамма соҳаларда ўзига 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ўзгаларга нисбатан қўйиладиган маънавий-ижтимо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талабла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ҳамда эҳтиёжларнинг муносабатлар шаклида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кўринишида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иборат бўлган, инсонга берилг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хтиёр эканлигининг хатти-ҳаракатлар жараёнида ич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рода кучи томонидан оқилона чекланишини тақозо этувч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маънавий ҳоди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76280"/>
            <a:ext cx="8208720" cy="863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</a:t>
            </a:r>
            <a:r>
              <a:rPr b="0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GreatWallNearBeijingWin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437000"/>
            <a:ext cx="4680000" cy="242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35640" y="4581360"/>
            <a:ext cx="288144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Buyuk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Xitoy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dev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Xi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484280"/>
            <a:ext cx="867564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Билгилким, ҳамма касбларга бирдай тааллуқ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сқача қоида-адаблар мавжуд, шунингдек, ҳар б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 учун алоҳида одоб ҳам бор. Агар бар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лар учу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зарурий одоблар хулосани неч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еб сўрасалар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ўрт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(саккизта) деб айтгил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20640"/>
            <a:ext cx="853272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усайн Воиз Кошифий ёзади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Peru Machu Picchu Sunri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32360" y="4292640"/>
            <a:ext cx="30956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Machu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Pik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7280" y="549360"/>
            <a:ext cx="7956720" cy="934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касбини ҳаромдан, шубҳали мол-маблағд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пок сақл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54936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700280"/>
            <a:ext cx="7956720" cy="1441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зқ-рўзи зарурати учунгина керакли кас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лан шуғуллансин, касбни мол-дунё тўплаш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флам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3284640"/>
            <a:ext cx="7956720" cy="1008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бни обрў олиш, яхши ном чиқаришнинг сабаб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б бил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508640"/>
            <a:ext cx="7956720" cy="136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и ҳаром одамлар (амалдорлар, порахўрл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роқчилар, ўғрилар, қиморбозлар, казз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ўкондорлар)билан муомала қилмасин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916280"/>
            <a:ext cx="720720" cy="1152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35772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581360"/>
            <a:ext cx="72072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84280"/>
            <a:ext cx="874872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доблилик – хушхулқлиликка, хушхулқлилик – юкс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ликка айланган каби, ахлоқий тарбия йўл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ўйилмаган жойда муайян шахс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вақти кели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одобсизликдан – бадхулқлиликка, бадхулқлиликдан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сизликка ўтиши мумк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49360"/>
            <a:ext cx="8209080" cy="79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тарбия натижасид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Petra Jordan BW 2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4076640"/>
            <a:ext cx="4390920" cy="2781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4437000"/>
            <a:ext cx="302400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Iordan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7:02:26Z</dcterms:created>
  <dc:creator>Talaba</dc:creator>
  <dc:description/>
  <dc:language>en-US</dc:language>
  <cp:lastModifiedBy>USER_CHIP</cp:lastModifiedBy>
  <dcterms:modified xsi:type="dcterms:W3CDTF">2011-12-07T04:03:45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