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DE0D-568A-4F05-8980-CB779366D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6974-9AB2-46CC-A658-58299717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DC0B-C385-45BC-A905-BD160F614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1191-CDF0-47DA-84B9-0D4A4159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0E31-7C5A-4A68-86BB-312AA634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7C5E-CFCA-40BE-BB39-36FAD107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912F-DFFF-4BA6-B25A-3A4E8887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0C5D-9839-46FD-9DF0-FACF1FDD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2738-5B0A-4515-B85B-9F83FF852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BB56E-1ED6-49D3-9A75-47BC2828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D8C3-B2CA-455B-9275-C678CF05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6B89-8AF4-4108-8F5E-B54BD03D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0257-50FF-4765-AD70-D58BDEC2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A19B-5E25-49EE-B8DA-2C23DCDE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25E1-C393-449E-A952-A113AC94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411B-56A9-4E4C-BA20-3D1E1C7B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3329-9494-4A13-9B5A-EBC5EBC6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5125-DAEF-46CC-B9D7-27B05321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C2F1-3D72-4557-8E4D-0B7122F7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324E-6903-4E86-9619-3BC3F7D5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F816-51C3-4491-A7A3-0F8C20BF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D42E-959B-427E-B1B2-4FB8C062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D71D-72A3-4762-B763-9008F4AE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1B09-6FCF-4D71-95FF-4B605BF0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5A32-FCF9-488B-873C-E6144EA9AE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136E-F071-4F94-B5DC-FA7F9A732C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692360" y="1341360"/>
            <a:ext cx="5940360" cy="349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TLAB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6000" y="27810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[X,Y] = meshgrid(-3:0.25:3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Z = peaks(X,Y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isovalues = (-3.0:0.5:3.0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contour(X,Y,Z,isovalues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view(2)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558120" cy="5234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xslice = (1:3:9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yslice = 0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zslice = 0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isovalues = (-3.0:0.25:3.0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contourslice(x,y,z,v,xslice,yslice,zslice,isovalues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931080" cy="5149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1280" y="2781000"/>
            <a:ext cx="747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isovalue = -1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purple = [1.0 0.5 1.0]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p = patch(isosurface(x,y,z,v,isovalue)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isonormals(x,y,z,v,p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et(p,'FaceColor',purple,'EdgeColor','none'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907320" cy="528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707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value = -1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lors = v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faces,verts,fcolors] = isosurface(x,y,z,v,isovalue,colors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p = patch('Vertices',verts,'Faces',faces,'FaceVertexCData',fcolors, ...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'FaceColor','interp'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normals(x,y,z,v,p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value2 = 0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faces,verts,fcolors] = isosurface(x,y,z,v,isovalue2,colors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p2 = patch('Vertices',verts,'Faces',faces,'FaceVertexCData',fcolors, ...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'FaceColor','interp'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isonormals(x,y,z,v,p2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view([-10 40]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lormap (jet(64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840360" cy="529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32000" y="285228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oad wind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min = min(x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max = max(x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min = min(y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max = max(y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min = min(z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max = max(z(:)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[sx sy sz] = meshgrid(xmin,ymin:10:ymax,zmin:2:zmax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h = streamtube(x,y,z,u,v,w,sx,sy,sz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h,'EdgeColor','none'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view([-40 50]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grid off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box on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lighting flat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6603840" cy="501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23640" y="1628640"/>
            <a:ext cx="3095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Z = peaks(20)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h = surf(Z);</a:t>
            </a:r>
            <a:br>
              <a:rPr sz="3200"/>
            </a:b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view([-20,25]);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000" y="28522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[X,Y] = meshgrid(-8:.5:8)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R = sqrt(X.^2 + Y.^2)+eps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Z = sin(R)./R;</a:t>
            </a:r>
            <a:br>
              <a:rPr sz="4000"/>
            </a:b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surf(X,Y,Z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692360" y="882720"/>
            <a:ext cx="6264360" cy="468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76000" y="2707920"/>
            <a:ext cx="66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r = pi*(-24:1:24)/24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 = pi*(-24:1:24)/24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[theta phi] = meshgrid(r,s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 = '(2 + cos(phi))*cos(theta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 = '(2 + cos(phi))*sin(theta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h = 'sin(phi)'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F = vectorize(f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G = vectorize(g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H = vectorize(h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x = eval(F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y = eval(G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z = eval(H); </a:t>
            </a:r>
            <a:br>
              <a:rPr sz="2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surf(x,y,z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977080" cy="526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050560" y="270792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theta = (0:1:36)*pi/18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rho = [0 1]'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 = rho*cos(theta)*sin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 = rho*sin(theta)*sin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 = rho*ones(size(theta))*cos(pi/6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one = surf(x,y,z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axis square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c1 = [1 1]'*cos(theta);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cone,'CData',c1)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hold on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phi = (0:1:6)'*pi/36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X = sin(phi)*cos(theta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Y = sin(phi)*sin(theta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Z = cos(phi)*ones(size(theta)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cap = surf(X,Y,Z)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c2 = (2:1:8)'*cos(theta)/8;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set(cap,'CData',c2)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&gt;&gt; view(-37.5,20)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6434280" cy="600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6985080" cy="5540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8920" y="256500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 = peaks(20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h = surf(Z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hading interp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87280" y="620640"/>
            <a:ext cx="7344000" cy="5915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234900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[X,Y] = meshgrid(-3:0.25: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Z = peaks(X,Y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esh(X,Y,Z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xis([-3 3 -3 3 -10 10]);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grid on;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7129440" cy="486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18920" y="2923920"/>
            <a:ext cx="67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[x,y,z,v] = flow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figure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xslice = 5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yslice = 0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zslice = 0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slice(x,y,z,v,xslice,yslice,zslice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view(3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axis on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grid on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light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lighting phong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camlight('left');</a:t>
            </a:r>
            <a:br>
              <a:rPr sz="32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shading interp;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6912000" cy="5006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chilova Firuza  (magistr TATU 202-11)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05:17:17Z</dcterms:created>
  <dc:creator>USER_CHIP</dc:creator>
  <dc:description/>
  <dc:language>en-US</dc:language>
  <cp:lastModifiedBy>STUDENT</cp:lastModifiedBy>
  <dcterms:modified xsi:type="dcterms:W3CDTF">2011-11-01T15:30:53Z</dcterms:modified>
  <cp:revision>17</cp:revision>
  <dc:subject/>
  <dc:title>Слайд 1</dc:title>
</cp:coreProperties>
</file>