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EAC1-CA49-4C9A-8DB4-8CD82544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833D-ACB4-479F-9B9F-710E06BE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6536-E0B5-41B2-B463-062578D2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9218-99C3-463B-B66C-DB6F1898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9EDB-C643-41F4-822D-CF095D45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47AC-CA3B-45EE-BA80-1140CCA4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4A84-7205-4A11-8E65-C55A60EA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25A9-B524-4166-BE06-0C3EAE6F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5ADE-11D3-477A-A751-34A2FFBB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2058-F1AC-4156-A734-6C38D53E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6F3A-2424-4F3A-98A1-5966AB15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AD7-16B6-4E5E-B808-D48D7645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328E-81E6-4BA5-8203-D6F8767A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72E0-D467-401D-9BEE-4490F408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5F6F-B815-4C7A-B17C-39CC1EE4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23E6-5627-4CFD-928C-9EB09F57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9D15-DF84-4BF1-AA18-9EC7B939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BE90-28A6-4461-B1FE-A42C1EBA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2D96-B542-460E-9E7F-7EEAA5FF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8B36-1ABC-4410-9E85-5DD89DA2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BB9-7AE4-433E-B224-249B9667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DF23-D93D-4ED1-8E09-59C0A16D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106A-BD9C-4EB9-B6D4-CAF22FC7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B374-09C9-491D-882C-EDC44DB4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A697-0672-4E16-9ACA-F2481422D29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1B14-C9A9-45A7-90C2-06433207F9B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93560" y="633240"/>
            <a:ext cx="7931160" cy="1487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643720" y="5072040"/>
            <a:ext cx="2914560" cy="900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202-AMT guruh talabasi Achilova Firuz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7" name="Прямоугольник 5" descr=""/>
          <p:cNvPicPr/>
          <p:nvPr/>
        </p:nvPicPr>
        <p:blipFill>
          <a:blip r:embed="rId3"/>
          <a:stretch/>
        </p:blipFill>
        <p:spPr>
          <a:xfrm>
            <a:off x="1090440" y="2444760"/>
            <a:ext cx="6602760" cy="1231920"/>
          </a:xfrm>
          <a:prstGeom prst="rect">
            <a:avLst/>
          </a:prstGeom>
          <a:ln w="0">
            <a:noFill/>
          </a:ln>
        </p:spPr>
      </p:pic>
      <p:grpSp>
        <p:nvGrpSpPr>
          <p:cNvPr id="98" name="Подзаголовок 2"/>
          <p:cNvGrpSpPr/>
          <p:nvPr/>
        </p:nvGrpSpPr>
        <p:grpSpPr>
          <a:xfrm>
            <a:off x="2023920" y="3584520"/>
            <a:ext cx="4741920" cy="774720"/>
            <a:chOff x="2023920" y="3584520"/>
            <a:chExt cx="4741920" cy="774720"/>
          </a:xfrm>
        </p:grpSpPr>
        <p:pic>
          <p:nvPicPr>
            <p:cNvPr id="99" name="Подзаголовок 2" descr=""/>
            <p:cNvPicPr/>
            <p:nvPr/>
          </p:nvPicPr>
          <p:blipFill>
            <a:blip r:embed="rId4"/>
            <a:stretch/>
          </p:blipFill>
          <p:spPr>
            <a:xfrm>
              <a:off x="2023920" y="3584520"/>
              <a:ext cx="47419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143080" y="3643200"/>
              <a:ext cx="4572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Mavzu:Tasvirni yorqinligini qayta ishlas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541008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I = imread('peppers.png'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I = I(10+[1:256],222+[1:256],: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imshow(I);title('Original Image')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LEN = 31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HETA = 11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PSF = fspecial('motion',LEN,THETA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Blurred = imfilter(I,PSF,'circular','conv'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 imshow(Blurred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itle('Blurred')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wnr1 = deconvwnr(Blurred,PSF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imshow(wnr1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itle('Restored, True PSF');</a:t>
            </a:r>
            <a:br>
              <a:rPr sz="1800"/>
            </a:br>
            <a:endParaRPr b="0" lang="en-US" sz="1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32000" y="2205000"/>
            <a:ext cx="3754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716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1 = imread('football.jpg'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2 = imadjust(RGB1,[.1 .2 .5; .9 .3 .8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3 = imadjust(RGB1,[.8 .9 0; .9 1 1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Nat1=[RGB1 RGB2 RGB3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mshow(Nat1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56000" y="4653000"/>
            <a:ext cx="61149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6875640" cy="2810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 = imread('pout.tif'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J = imadjust(I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K = imadjust(I,[0.1 0.5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Nat=[I J K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mshow(Nat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6858000" cy="221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 = imread('tire.tif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2 = uint8(colfilt(I,[5 5],'sliding',@mean)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NATIJA=[I I2]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mshow(NATIJA);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'distinct' </a:t>
            </a:r>
            <a:br>
              <a:rPr sz="1600"/>
            </a:b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UN</a:t>
            </a:r>
            <a:endParaRPr b="0" lang="en-US" sz="1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681200" y="2529000"/>
            <a:ext cx="5781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357192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=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[X,map] = rgb2ind(I,32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imshow(X,map)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572080" y="785880"/>
            <a:ext cx="3081240" cy="235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5572080" y="3357720"/>
            <a:ext cx="3114720" cy="2357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1357200" y="3357720"/>
            <a:ext cx="31813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37576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=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bw=im2bw(I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[X,MAP] = gray2ind(bw,256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imshow(X,MAP);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071880" y="4638600"/>
            <a:ext cx="3071880" cy="2290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0" y="4643280"/>
            <a:ext cx="2962440" cy="221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6143760" y="2286000"/>
            <a:ext cx="305100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4"/>
          <a:stretch/>
        </p:blipFill>
        <p:spPr>
          <a:xfrm>
            <a:off x="6215040" y="4626000"/>
            <a:ext cx="2928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JUS1 = 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JUS2 = imadjust(JUS1,[.2 .3 0; .6 .7 0.9],[]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%imshow(JUS1), figure, imshow(JUS2)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Natija=[JUS1 JUS2]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mshow(Natija)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RGB2=imadjust(RGB1,[Low_in; High_in],[low_out; High_out],gamma]);</a:t>
            </a:r>
            <a:br>
              <a:rPr sz="2000"/>
            </a:b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14680" y="4572000"/>
            <a:ext cx="51433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680" y="135684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 = imread('D:\odam.jpg'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%  figure, imshow(I)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1 = imopen(I,strel('line',20,4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2 = imopen(I,strel('disk',1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3 = imopen(I,strel('square',18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4 = imopen(I,strel('ball',12,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Natija2=[bg3 bg4]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Natija1=[bg1 bg2]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igure, imshow(Natija1)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igure,imshow(Natija2)</a:t>
            </a:r>
            <a:endParaRPr b="0" lang="en-US" sz="1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3071880" y="4610160"/>
            <a:ext cx="6000840" cy="2247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3071880" y="2357280"/>
            <a:ext cx="59976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843200" y="1935000"/>
            <a:ext cx="5457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2071800" y="2031840"/>
            <a:ext cx="48736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4076640" cy="4028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599000" y="2279520"/>
            <a:ext cx="40766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4:14:53Z</dcterms:created>
  <dc:creator>User</dc:creator>
  <dc:description/>
  <dc:language>en-US</dc:language>
  <cp:lastModifiedBy>USER_CHIP</cp:lastModifiedBy>
  <dcterms:modified xsi:type="dcterms:W3CDTF">2011-11-24T11:13:30Z</dcterms:modified>
  <cp:revision>17</cp:revision>
  <dc:subject/>
  <dc:title>Слайд 1</dc:title>
</cp:coreProperties>
</file>